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178503"/>
        <c:axId val="94678887"/>
      </c:barChart>
      <c:catAx>
        <c:axId val="301785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678887"/>
        <c:crosses val="autoZero"/>
        <c:auto val="1"/>
        <c:lblAlgn val="ctr"/>
        <c:lblOffset val="100"/>
        <c:noMultiLvlLbl val="0"/>
      </c:catAx>
      <c:valAx>
        <c:axId val="946788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1785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0B8B-7B6C-4BB9-ACEB-3683AA6C7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7BC3-8140-4FA7-A77F-71C217C79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2532-0973-4D92-B547-200A5E94D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F12D-3A6F-484E-A6C5-D24E17DF6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F5AF-E056-49F0-B74B-06DA44944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2AFA-71FA-46C1-816D-AC975BCD0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B20E-585D-4845-AECF-16CA2689C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5B93-3E7B-46F7-9883-A5163E8A9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07C8-7DAD-4649-BD93-7372F68CE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1083-7EDB-495A-84BC-17CDE2CB1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2FD9-B132-454A-931A-4B87B1A00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B7D4-762B-46EB-845B-5E9284FA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74D1DF-C161-4544-9FC6-6E70DF735D5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