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589900"/>
        <c:axId val="13432869"/>
      </c:barChart>
      <c:catAx>
        <c:axId val="455899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32869"/>
        <c:crosses val="autoZero"/>
        <c:auto val="1"/>
        <c:lblAlgn val="ctr"/>
        <c:lblOffset val="100"/>
        <c:noMultiLvlLbl val="0"/>
      </c:catAx>
      <c:valAx>
        <c:axId val="134328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899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49F2-2CE1-4A3F-B338-3762734E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F1D9-586B-443D-AB51-89A0C0A1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C5A5-6F45-4F45-922F-F89FF3D0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9705-FB08-43B9-A121-E0CD18DA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796A-816B-4E48-B48A-F232D0A9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AE97-045C-4AE6-BB06-510A0C97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F8BA-E162-442E-86F9-C145BE54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3A41-D132-4364-BBAE-E12E7768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4618-71E6-446B-AED9-8452CA1A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DCCF-E444-4B04-AFBD-9E413BB1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D9ED-C2C0-496A-81B3-EB76C01B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90A9-40C3-4548-AAEE-0B1769D3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F3AF1-8DEB-406E-A6B0-133757E06C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