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85482"/>
        <c:axId val="24831632"/>
      </c:barChart>
      <c:catAx>
        <c:axId val="3385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31632"/>
        <c:crosses val="autoZero"/>
        <c:auto val="1"/>
        <c:lblAlgn val="ctr"/>
        <c:lblOffset val="100"/>
        <c:noMultiLvlLbl val="0"/>
      </c:catAx>
      <c:valAx>
        <c:axId val="248316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5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8BD-998F-4768-83A7-92F09250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B61E-5834-4FDB-9A22-18EB5536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96E1-B44A-4637-8EB4-C54E32F9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1A8-065A-4A74-AF3A-CCB69D30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053-6606-4CE6-A482-5EB180C9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CB7A-A514-41F6-817D-08FAD50E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9021-278A-4976-91E5-5E0AD4CC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73E-4E6C-4226-A12F-F675D855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B47-30BB-42B6-B7E3-AD4908FE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7BA-D485-4CEA-8892-BC372693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5254-B312-4C7E-9DB9-7B39E8B7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8BF-CFCE-4AE6-A5A6-5E0B2233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0BFE9-D479-4DED-BF53-2CCE49324E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