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68509"/>
        <c:axId val="31854218"/>
      </c:barChart>
      <c:catAx>
        <c:axId val="30468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54218"/>
        <c:crosses val="autoZero"/>
        <c:auto val="1"/>
        <c:lblAlgn val="ctr"/>
        <c:lblOffset val="100"/>
        <c:noMultiLvlLbl val="0"/>
      </c:catAx>
      <c:valAx>
        <c:axId val="31854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68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645-8DDB-44E0-80C3-65E18C06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02A-3AA7-4A5C-B81B-5A42F90F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BBA-C7AF-485D-B9A2-2A813F8D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CB0-5F80-49F7-AAD6-C985B06A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ED1-C1D2-4E28-AC2C-144BD926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608-3CD5-4020-B3E5-FE6F86F9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942-7DE8-419F-84D2-77168EDA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9D2-3327-4092-82D2-D068DE45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8BE-AF49-4E4D-A6CE-F2DB45F9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06C-BC8D-45DE-B507-41B7F4FA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35B-E41C-48F8-9767-E6C4FFAE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DB7-8C9D-46CA-9232-95471275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7834C-773B-410A-892B-0DC55A4B7E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