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29837"/>
        <c:axId val="62001853"/>
      </c:barChart>
      <c:catAx>
        <c:axId val="42829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01853"/>
        <c:crosses val="autoZero"/>
        <c:auto val="1"/>
        <c:lblAlgn val="ctr"/>
        <c:lblOffset val="100"/>
        <c:noMultiLvlLbl val="0"/>
      </c:catAx>
      <c:valAx>
        <c:axId val="62001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29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B4C0-39AD-4990-ACD4-8238E0CB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70C-0EE5-415C-A063-C50D0566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FF9-6F14-4C59-B198-91BFBC96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7DD-839F-4972-9CFD-52FAE833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9B4-7424-44AD-BAC6-ED886515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C95-CC17-44EA-9DC9-036D8143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E45-2C40-4465-87B9-14E94B20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D77-AC63-40BA-90DF-7A6ABEF7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76B3-4418-492C-A4A2-67CC9F8B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368-6DA8-4616-84BC-1916737B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E5F-ECB2-493B-A121-5FA2E2C2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73D-782C-4089-8F4A-8CFB8E77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11D1C-FBEA-4AAC-9F5C-1863EBE80F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