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64279"/>
        <c:axId val="63836733"/>
      </c:barChart>
      <c:catAx>
        <c:axId val="96864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36733"/>
        <c:crosses val="autoZero"/>
        <c:auto val="1"/>
        <c:lblAlgn val="ctr"/>
        <c:lblOffset val="100"/>
        <c:noMultiLvlLbl val="0"/>
      </c:catAx>
      <c:valAx>
        <c:axId val="63836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64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1FE-5C2C-4831-A689-1FDE3059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929-A0B3-49BD-AEE9-B824A3AA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6DC-0336-4986-A83A-D8F78A92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08F-EA0A-4CEC-B819-C202BD62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6EA-CFA7-419F-B03E-8FD23C5D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16E-9BE4-4441-8C22-2A1EB2E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161-38FA-4222-9983-E70A40B2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623-FAFC-4B1A-A371-7E7BE544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B67-C2CB-476D-9C41-44D165A0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E9A-B68E-4A13-862C-CBDD880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22C-C91D-443B-9FAB-8A863E7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D61-24DC-4D2B-8D3E-123B089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7D822-34FF-4B4D-B7A9-C6F546A67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