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099112"/>
        <c:axId val="39579075"/>
      </c:barChart>
      <c:catAx>
        <c:axId val="35099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79075"/>
        <c:crosses val="autoZero"/>
        <c:auto val="1"/>
        <c:lblAlgn val="ctr"/>
        <c:lblOffset val="100"/>
        <c:noMultiLvlLbl val="0"/>
      </c:catAx>
      <c:valAx>
        <c:axId val="39579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99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E2F-E704-405B-88AC-1E599C29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097-1791-47F5-88DD-370FC444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B09-677B-4F22-86D8-3F588245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BF0-A750-49EE-A90D-42D656BE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3BC-1CBC-4491-93F9-E8F9A965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2D6-B146-46ED-AC83-DC3FD5BA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08C-A3BA-48E4-AC9C-35E55BDE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813-A628-44FF-A60A-34A0D72F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18E-9C9A-45EA-908C-D76E314D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31F-B78C-4DC3-B91D-F3D22F8D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47A-F81A-4A28-9A10-8CADB870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4D0-3AD7-4D9D-BF3B-F5489576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5C8E8-33B2-4D8A-A78C-C3EF7E37D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