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59209"/>
        <c:axId val="99341225"/>
      </c:barChart>
      <c:catAx>
        <c:axId val="78159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41225"/>
        <c:crosses val="autoZero"/>
        <c:auto val="1"/>
        <c:lblAlgn val="ctr"/>
        <c:lblOffset val="100"/>
        <c:noMultiLvlLbl val="0"/>
      </c:catAx>
      <c:valAx>
        <c:axId val="99341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59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F7A-6292-4D97-93A1-4DA13148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AF4-13F0-46FB-99B5-115EE7EB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BDF-985A-4D13-9D21-457A728F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F8E-0D48-47DC-B613-A761222F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B27-4E39-4FA9-A125-0545252A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B97-3AEE-43B3-A415-A05486D3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44A-D4B6-484E-9A9B-3B45E9D4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A49-AD88-4F03-996D-D2F99B12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6F2-065E-4002-AAA7-6410EF8C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1F0-DFD1-4AB9-BA27-3667B311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460-1358-4E65-9050-08325AA0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30F-34A3-4E59-A52A-E1162FF0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4A4B7-8ADD-4FFE-BF85-CBC9D8E5AE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