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30638"/>
        <c:axId val="9855382"/>
      </c:barChart>
      <c:catAx>
        <c:axId val="13930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5382"/>
        <c:crosses val="autoZero"/>
        <c:auto val="1"/>
        <c:lblAlgn val="ctr"/>
        <c:lblOffset val="100"/>
        <c:noMultiLvlLbl val="0"/>
      </c:catAx>
      <c:valAx>
        <c:axId val="9855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30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7A8-3FA4-44D8-9350-7DB992BB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EC5-9008-40AC-BD23-B50CFB4B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62E-C40B-4A93-8344-D3B8F075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C45-7FAE-4616-B0C0-841D1307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9EB-8325-4EFC-9AF0-2C720384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155-CAC2-4227-B2A3-F1AB21F9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728-1987-4FA7-AFC6-0EAA59A7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0D4-2061-4D41-B1A3-2779E0BB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B46-8C1B-4F97-BDC3-8E7E49EC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68B-6F46-45B1-9F5A-6F31240C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B99-E2A8-4B17-A92C-3C1FAEE5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5FB-FC2F-4D75-995C-6EE96562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0A47C-C365-48B5-8C2A-EACE027381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