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67344"/>
        <c:axId val="61498067"/>
      </c:barChart>
      <c:catAx>
        <c:axId val="16067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98067"/>
        <c:crosses val="autoZero"/>
        <c:auto val="1"/>
        <c:lblAlgn val="ctr"/>
        <c:lblOffset val="100"/>
        <c:noMultiLvlLbl val="0"/>
      </c:catAx>
      <c:valAx>
        <c:axId val="61498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67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17D-FEE2-401D-80C4-C88B9858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A45-0775-48F1-8545-679CA8FC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C99-43ED-422B-9E52-B2D77E55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C1F-9CBB-4B63-81CA-D2531FBF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F9D-B6D9-45B2-8B7B-055BAFC9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1D6-CCC5-4118-A5F8-1D593A91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E0F-9667-49CF-B34F-BCD0E32F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FE3-3BF6-4D21-885B-85A8C6B1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4D4-1FD3-43D4-919A-3C65A135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37F-22FC-420A-BC44-9E0E5417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FE9-9DEC-4F79-8CFD-2D97CBBB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27D-56BD-4C46-8B1D-B3ADE564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A8505-4C24-4F91-877C-8361DFE7CA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