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94191"/>
        <c:axId val="58404754"/>
      </c:barChart>
      <c:catAx>
        <c:axId val="44294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4754"/>
        <c:crosses val="autoZero"/>
        <c:auto val="1"/>
        <c:lblAlgn val="ctr"/>
        <c:lblOffset val="100"/>
        <c:noMultiLvlLbl val="0"/>
      </c:catAx>
      <c:valAx>
        <c:axId val="58404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4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05F-2E9D-4FDD-A53C-98A50CF2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60A-9DA1-4A68-8489-16BA8785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08A-ED99-43C3-B3AF-44AF3765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494-B2A2-4B7E-B16E-1D8B96D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F06-119E-4B65-BB4E-BE123FD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7B2-9B24-406C-A21D-E42FFFB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4F7-C3BB-4D8D-8F79-90EF412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FB8-0EAD-458B-BEC8-D8E711FA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132-8839-455B-BD87-D3DF00AD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A0F-8626-4ED8-8B6F-90B349A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8C3-CF39-4453-815D-60E77C8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CF4-B528-4B1B-B2CB-1435D16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855DE-BBCA-4ABB-9FCF-0C35931FBA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