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92944"/>
        <c:axId val="52628051"/>
      </c:barChart>
      <c:catAx>
        <c:axId val="76492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28051"/>
        <c:crosses val="autoZero"/>
        <c:auto val="1"/>
        <c:lblAlgn val="ctr"/>
        <c:lblOffset val="100"/>
        <c:noMultiLvlLbl val="0"/>
      </c:catAx>
      <c:valAx>
        <c:axId val="52628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92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22F-0311-496C-9ACC-13DC6BDB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6BD-CF5B-42EC-A285-C7374F3C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AAB-0AE0-47B8-AEF1-1CBA1BD6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9FA-3FDD-466D-91D1-DB9169F0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680-3A1F-4D4C-B9C5-EF871775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E30-F369-4AC8-80CB-708540CA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794-0F20-42B1-B125-D4E72AB1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F82-6D13-4B1F-B604-19BF0C3C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59A-A2A4-4B38-A4B9-66724E87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DBC-C419-4337-A4EA-2AAE81B5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B77-6F50-49E3-82BB-3E42D4C5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C85-4B0A-435F-9594-4303EF3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CEB6F-FC66-4F3A-A8E7-8B81DA5298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