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9961926"/>
        <c:axId val="57495049"/>
      </c:barChart>
      <c:catAx>
        <c:axId val="4996192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495049"/>
        <c:crosses val="autoZero"/>
        <c:auto val="1"/>
        <c:lblAlgn val="ctr"/>
        <c:lblOffset val="100"/>
        <c:noMultiLvlLbl val="0"/>
      </c:catAx>
      <c:valAx>
        <c:axId val="5749504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96192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BC52F-E6BA-4B2C-8162-FD5892D56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B0844-FE55-40A4-AF28-54EEF545B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065C6-E8F4-4681-9DCD-7067B9BB5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F4C2B-45C0-4B81-B180-CBFC16A5D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67C20-147F-40AF-B36B-97A3AF9F9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624D6-E460-49BF-9109-597035C5E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F1C52-4AFC-424D-AF3C-14ED03C1B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4B596-F538-496B-AEEE-BAECAFE11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545AC-1294-4AF6-A271-BE69AB7A1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22F1B-A514-46BC-AA50-DB92C68C5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E3804-A5BC-40B3-A7B6-D1A717A62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F6818-0254-40FF-9780-5F96D23F4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68C49F-53B9-416C-B6EF-4994B61132B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