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70177"/>
        <c:axId val="47912724"/>
      </c:barChart>
      <c:catAx>
        <c:axId val="68870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12724"/>
        <c:crosses val="autoZero"/>
        <c:auto val="1"/>
        <c:lblAlgn val="ctr"/>
        <c:lblOffset val="100"/>
        <c:noMultiLvlLbl val="0"/>
      </c:catAx>
      <c:valAx>
        <c:axId val="47912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70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07A-F8D1-4AC6-B607-DE228A9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345-A1AB-4DF4-A3B5-DD3C96AE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5E0-8EAB-47F4-948D-86E0CE82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F48-D283-42CE-94AD-B5900E53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590-5638-4AC5-8F20-A5F9C48C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297-439F-4125-BBF6-B5729041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96E-9F00-4E3A-84BB-EDFB506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BAB-3954-4DDD-AAB8-1B3E49C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374-1071-44EF-B238-1831C26B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2FD-03EF-4AB7-86E7-C3C192C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7FD-73F5-4C8E-9059-976CEC9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426-02AA-4772-9A92-10F813C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89446-8959-4FAB-B552-AB17CF3C69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