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4046"/>
        <c:axId val="1525357"/>
      </c:barChart>
      <c:catAx>
        <c:axId val="3984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5357"/>
        <c:crosses val="autoZero"/>
        <c:auto val="1"/>
        <c:lblAlgn val="ctr"/>
        <c:lblOffset val="100"/>
        <c:noMultiLvlLbl val="0"/>
      </c:catAx>
      <c:valAx>
        <c:axId val="1525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4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B87-B246-4FF7-9783-31482715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768-1CE3-4A6B-B8C8-E69FCD6B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AF1-644A-4ABC-BF2A-6BBB6355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655-E94A-48BE-A898-099CEC19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C8E-A0F1-45E7-92E8-BD65D567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057-5DE4-4AED-8AFB-5799830D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7BD-BF6B-43F5-BCB3-05C5348A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639-859F-4FAC-A937-396049F4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AC6-7E3F-4E5C-9028-3F6F2AEC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B2D-823F-4843-9BA4-C2EC9C2D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01C-6D81-4661-A107-3D66432D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E58-658A-4816-A645-06CDE6F7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77392-0EB1-4A08-9169-E4395BE539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