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23900"/>
        <c:axId val="61787024"/>
      </c:barChart>
      <c:catAx>
        <c:axId val="10923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87024"/>
        <c:crosses val="autoZero"/>
        <c:auto val="1"/>
        <c:lblAlgn val="ctr"/>
        <c:lblOffset val="100"/>
        <c:noMultiLvlLbl val="0"/>
      </c:catAx>
      <c:valAx>
        <c:axId val="61787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23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211-61ED-43FB-9798-0D43D4D3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A15-B872-4FC2-A6E2-1DB4546D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DAA-8361-4F41-9BAC-DE8D79BE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262-F80A-4E60-817B-72A0E495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8BE-9689-4093-A50D-25751610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03C-EF82-43DD-9233-9353E8F6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F1D-1B98-40CD-AE30-2463E899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45B-3AD7-4BF1-AC8E-0D209931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AA3-373C-4058-BE25-35717DE9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FA4-E09F-4536-9163-7D6DD93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E9C-B5F4-4CC5-A41E-DCA9B6D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619-0256-4CD8-BCEB-FE50768D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78F1B-EB66-45C7-85F9-7E4F5E3897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