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85822"/>
        <c:axId val="49557297"/>
      </c:barChart>
      <c:catAx>
        <c:axId val="60385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57297"/>
        <c:crosses val="autoZero"/>
        <c:auto val="1"/>
        <c:lblAlgn val="ctr"/>
        <c:lblOffset val="100"/>
        <c:noMultiLvlLbl val="0"/>
      </c:catAx>
      <c:valAx>
        <c:axId val="49557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85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132-8118-4A43-9AFE-BF12737F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D49-0301-4BD4-87A6-DA58EE9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DE8-27AE-43BB-9D94-40FCCEB1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BF6-3ACF-46B2-9CAA-C1C756F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73F-C7AF-430B-8D76-E10477EF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70C-686C-4DDD-A57B-D67A740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7D8-4974-4B56-AAFF-8FE1695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82A-FDC4-410A-97E1-76699422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CCA-5580-4C87-987A-D4A83B4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B04-F269-41C5-B582-1922797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433-F38A-42B4-83C7-F6DCCE7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77B-3198-4211-96A8-DD264F74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A0F72-65B8-4837-9C2A-DEFE0ECC7C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