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09360"/>
        <c:axId val="15427185"/>
      </c:barChart>
      <c:catAx>
        <c:axId val="33809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7185"/>
        <c:crosses val="autoZero"/>
        <c:auto val="1"/>
        <c:lblAlgn val="ctr"/>
        <c:lblOffset val="100"/>
        <c:noMultiLvlLbl val="0"/>
      </c:catAx>
      <c:valAx>
        <c:axId val="1542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09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F44-0C45-4B64-BB1A-4EE8BD6D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BCB-B4F7-40C9-A046-DF24B371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C09-1C57-43F2-BCE7-6F30AD32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0DA-5CA7-41D9-8B2E-678FE652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489-E093-460E-BABB-8294D05D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650-78F2-4E4C-8FB4-B3F48705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B43-FE7A-4721-9738-F6D76A0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276-6BF7-4ABF-A752-A78810B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A21-7E97-4B9C-B7D2-6435DCE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7BE-3FE4-4267-90E2-CD22080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DBB-7E22-4DAA-BA97-8370E16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520-B3D5-4FD5-8156-BF5A37BB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C92A-7548-4822-9027-FC4013643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