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04673"/>
        <c:axId val="90813292"/>
      </c:barChart>
      <c:catAx>
        <c:axId val="75046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813292"/>
        <c:crosses val="autoZero"/>
        <c:auto val="1"/>
        <c:lblAlgn val="ctr"/>
        <c:lblOffset val="100"/>
        <c:noMultiLvlLbl val="0"/>
      </c:catAx>
      <c:valAx>
        <c:axId val="908132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46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B5CE-4796-486B-B223-4890B1F5F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1139-BF34-4DB2-BF16-9BB517C6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3EDD-B9AA-4824-85E4-449127251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6738-3A70-40FE-914E-7C03F81E9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1979-28FF-4B20-A31F-9FADFBCD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1EC9-9071-485D-9555-6E48CBB4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52C1-43C9-4517-BFBF-A0B5A84E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302C-E85C-408F-91B3-1BCD5F77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C8C9-F20B-4CB5-8AFE-5CF7E501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4219-8ACD-4B4A-9296-047EA22A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7E7F-16AF-44DD-8242-116DC81E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D859-3920-44DB-ABB5-09259047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4E6618-20DB-4263-8022-478BEA8EDA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