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47830"/>
        <c:axId val="98277388"/>
      </c:barChart>
      <c:catAx>
        <c:axId val="33847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77388"/>
        <c:crosses val="autoZero"/>
        <c:auto val="1"/>
        <c:lblAlgn val="ctr"/>
        <c:lblOffset val="100"/>
        <c:noMultiLvlLbl val="0"/>
      </c:catAx>
      <c:valAx>
        <c:axId val="9827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47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C92-23A8-4DC5-8328-8EBF26F6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7CA-7BD8-40A6-8C72-2ED9008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236-B67B-4F9B-BB1C-EFD9249C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135-60DF-40F4-A278-16493D33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BB1-7244-4E9B-969A-BE11C7CC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FF4-D687-422A-B88F-E54A2029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C2-BFBC-4050-9DA6-593D2155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9CD-21BC-4FE7-88FB-8B1F4CF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B7B-7743-4158-BA3C-24AE14F9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1C3-41D8-4619-8063-0E06E0D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4CC-B4FF-43E9-9AE7-65C5611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72B-55B4-4378-A70E-814157E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C034E-EB00-4C2C-B46C-80F1FB864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