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10670"/>
        <c:axId val="89062922"/>
      </c:barChart>
      <c:catAx>
        <c:axId val="9651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62922"/>
        <c:crosses val="autoZero"/>
        <c:auto val="1"/>
        <c:lblAlgn val="ctr"/>
        <c:lblOffset val="100"/>
        <c:noMultiLvlLbl val="0"/>
      </c:catAx>
      <c:valAx>
        <c:axId val="890629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1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5F14-0CE5-421E-AEB6-47A2FBFC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3FC-7D29-4B1E-B7D5-91A34D13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925-0720-4B7B-886D-EB9E05B7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358E-2691-4BAC-9DDA-F974670E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39A-116E-4993-93D0-3926E3E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75C-4F32-453A-9351-D4915A4F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7422-87B6-4ED3-B807-F5B03CA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CF3-037C-4A24-A8AF-7567A28D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FE5-6812-431E-8443-429F1AB5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06E-9B4B-4FF0-9DED-6E61D8A0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ECD-C2E3-4FB8-BBB2-A791EE46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B6C-8DA0-4093-8A41-C0E4146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45C96-B8C6-4663-9A43-611EC2BBB3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