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72712"/>
        <c:axId val="86993066"/>
      </c:barChart>
      <c:catAx>
        <c:axId val="56672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93066"/>
        <c:crosses val="autoZero"/>
        <c:auto val="1"/>
        <c:lblAlgn val="ctr"/>
        <c:lblOffset val="100"/>
        <c:noMultiLvlLbl val="0"/>
      </c:catAx>
      <c:valAx>
        <c:axId val="86993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72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2C7-D682-48C6-B171-A4677541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F2F-EF1D-4254-B1FA-FD6DB96A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4ED-68F9-46A8-9CFC-2337E27B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21F-97E7-47A7-BE9B-ACDA31E4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41A-4F37-45D1-8B67-29097559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F35-EB12-403A-852E-8B56035A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1F6-65DC-4ACC-AB08-073DF2CF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1E5-B9B2-4971-802B-6728754A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20A-2DFD-4358-8E69-3AEABC10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33D-9424-42B9-BB04-31C9503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1AF-C96C-4D0D-A323-D3F9AD87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A6B-943F-4ACA-9520-6D88A6F7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BC0BB-19C0-4CB6-AABB-7E7359144C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