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59031"/>
        <c:axId val="18959916"/>
      </c:barChart>
      <c:catAx>
        <c:axId val="92459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9916"/>
        <c:crosses val="autoZero"/>
        <c:auto val="1"/>
        <c:lblAlgn val="ctr"/>
        <c:lblOffset val="100"/>
        <c:noMultiLvlLbl val="0"/>
      </c:catAx>
      <c:valAx>
        <c:axId val="18959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59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BDA-DA6D-4F0A-A043-E158048D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B45-0596-4D4E-A5E2-1EF9111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F13-6F22-4E4B-AF4C-5157AE33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35D-A02D-4F43-A694-6931A9AF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4C2-6FAB-4A26-9921-88A9C7E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5B0-190B-4A24-8FAB-0E4F1D2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348-70AB-4507-BAC3-E3D49A89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D7A-EF1F-4A01-9901-816054D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1D0-9A97-4182-AB3F-F9881C37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3EC-E421-4578-A9E7-673D917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12B-115F-4FA6-BDC0-8E10DBE7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4EF-3933-43A3-9DCF-C1A4C72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7FC9-10E0-4105-BDBB-AFB22D36C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