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78385"/>
        <c:axId val="30448759"/>
      </c:barChart>
      <c:catAx>
        <c:axId val="54078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48759"/>
        <c:crosses val="autoZero"/>
        <c:auto val="1"/>
        <c:lblAlgn val="ctr"/>
        <c:lblOffset val="100"/>
        <c:noMultiLvlLbl val="0"/>
      </c:catAx>
      <c:valAx>
        <c:axId val="30448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78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42D-A983-430B-899F-F9B5ECE7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198-5F11-4DA7-BB9D-B5F3AB46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A69-3715-4D86-9CF5-8825A679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55F-B015-4F13-8DCC-8D250261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633-C55C-4591-9BC2-B5C8ECB5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CC1-B83F-4FE3-8BE3-897B31FB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16B4-2F70-4765-940E-F75C630C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7CE-0171-41E7-AB0A-949B9845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C68-E8C8-4A9B-9822-C638B220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244-5898-4F12-A9BD-C3189C3D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E48-E051-4B5F-833E-3EE305F1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F94-FD57-4E6E-9E6B-AA2BC2C0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D5617-628D-4550-8732-9D31E27EDA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