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7037"/>
        <c:axId val="59196807"/>
      </c:barChart>
      <c:catAx>
        <c:axId val="4917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6807"/>
        <c:crosses val="autoZero"/>
        <c:auto val="1"/>
        <c:lblAlgn val="ctr"/>
        <c:lblOffset val="100"/>
        <c:noMultiLvlLbl val="0"/>
      </c:catAx>
      <c:valAx>
        <c:axId val="59196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509-DC53-4D65-8CB0-1BC97D55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DC5-F8F5-4B62-816C-0007B9D8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94D-A9C3-41BE-9B6D-932E3360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F9A-3E20-47EC-8516-2C6ED9CD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45D-C676-4030-BFC6-C968298B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13B-DA7F-404A-AA50-EEC2717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00CE-3118-4B69-8756-B4C6DA6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E94-B6BB-4E73-8C6D-B7230B76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FA5-3C50-4F13-A9B1-8B51C4D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243-7689-4D07-A065-4EAF558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585-76ED-46A4-8693-1442EE9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BD6-027C-4672-8142-342CDB3E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CF187-65A4-4CE8-8DC6-B397ADB44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