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9516441"/>
        <c:axId val="74633868"/>
      </c:barChart>
      <c:catAx>
        <c:axId val="9951644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4633868"/>
        <c:crosses val="autoZero"/>
        <c:auto val="1"/>
        <c:lblAlgn val="ctr"/>
        <c:lblOffset val="100"/>
        <c:noMultiLvlLbl val="0"/>
      </c:catAx>
      <c:valAx>
        <c:axId val="7463386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951644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C9507-0725-42EA-A72A-CE76D01E7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E7EE1-E389-4EFE-A4E3-FFCF77A69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69C8C-FE3E-4FBB-880E-1AA9FBC57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1EC63-3C2D-41BD-BABE-1083023DD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E1B86-AE28-403B-A02D-9D9E5AF4F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6078B-CC6E-4CF8-ACB6-2FFD8E2E7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95250-3344-4097-BDDA-1293E8A43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D87D4-B533-4880-AEB9-743AFFF5B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E549F-49D3-42D2-8635-8BA2430C0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40D59-5479-425E-8DF2-5E9722508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F1028-827C-4E95-AB36-71FC6FE5F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50586-EC56-481A-A961-191664819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DFD66B-FC0C-4D78-B489-08162355D21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