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04199"/>
        <c:axId val="75426793"/>
      </c:barChart>
      <c:catAx>
        <c:axId val="11904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26793"/>
        <c:crosses val="autoZero"/>
        <c:auto val="1"/>
        <c:lblAlgn val="ctr"/>
        <c:lblOffset val="100"/>
        <c:noMultiLvlLbl val="0"/>
      </c:catAx>
      <c:valAx>
        <c:axId val="75426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04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775-D89E-4D74-B05F-0B6753A0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28A-B964-4050-A59F-241F02E8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42B-DA57-42DC-94BE-7502E0AE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A12-F3D3-490E-9C53-58A55507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AF7-D5D1-4864-B69B-EE2ED740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060-C0E2-44B7-B970-2E38E0D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617-5B0F-401F-90C7-60347F8D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DEE-533E-45A8-8057-3BCD8F96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214-9762-427A-AE53-2B63BEC4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940-316F-4F34-B277-D64E822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8E4-EE10-4CEC-B3EA-950FEBF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AAF-318A-4C3D-A0CF-38A2F76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575BE-D969-4647-8ECB-3B02CA3400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