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96488"/>
        <c:axId val="1188549"/>
      </c:barChart>
      <c:catAx>
        <c:axId val="267964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8549"/>
        <c:crosses val="autoZero"/>
        <c:auto val="1"/>
        <c:lblAlgn val="ctr"/>
        <c:lblOffset val="100"/>
        <c:noMultiLvlLbl val="0"/>
      </c:catAx>
      <c:valAx>
        <c:axId val="1188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964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5C6-F2EA-4D39-85D5-6B3AE014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36D-78E3-4E56-B0F8-D7391EC7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71F-94CF-44AE-A7B4-28848470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8ADE-6F54-4415-A891-7C34EE66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5CEB-ACF0-49A2-BDE5-6265AF3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BB0-A43F-481A-AEE8-10E58BDB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CEE-6618-4F41-87C6-54E294F3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DE6-79ED-4072-ACBC-6191B63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F4A-512F-42F0-8AF5-FED6A930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A3D-1FEC-4595-B480-57FE808B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B6B-FB0B-4696-B037-F19F60E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82F-7AAE-4A2E-B403-E3F88E6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7C042-AEB9-4CBE-B3A9-70253FD663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