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12866"/>
        <c:axId val="67049555"/>
      </c:barChart>
      <c:catAx>
        <c:axId val="57412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49555"/>
        <c:crosses val="autoZero"/>
        <c:auto val="1"/>
        <c:lblAlgn val="ctr"/>
        <c:lblOffset val="100"/>
        <c:noMultiLvlLbl val="0"/>
      </c:catAx>
      <c:valAx>
        <c:axId val="67049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12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50B-6763-4135-BC30-5937F08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D4B-7334-4E58-BF14-F3F8D8F8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D0E-2661-45AA-AE66-B204CB91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C13-A92A-4688-B715-89F3058C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B40-2A12-4F37-A0DB-F5D1F126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860-CE9E-4172-A4EE-5BF683D8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A22-CC6E-449B-ADE0-EE771A05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149-C4AD-4276-A021-93204867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CF-BCDC-472D-8563-8D3B1FB5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BD33-18D6-4DD0-B0EA-F33C19D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C056-9733-42E3-9E5D-570159CA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B58-A6ED-40C6-8FD1-243DB77D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B024B-A3A4-43EF-9EB7-C1C9301722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