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120453"/>
        <c:axId val="47543830"/>
      </c:barChart>
      <c:catAx>
        <c:axId val="601204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543830"/>
        <c:crosses val="autoZero"/>
        <c:auto val="1"/>
        <c:lblAlgn val="ctr"/>
        <c:lblOffset val="100"/>
        <c:noMultiLvlLbl val="0"/>
      </c:catAx>
      <c:valAx>
        <c:axId val="475438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1204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479C-A05D-48A0-82A7-A49AB12A8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5D25-CCA1-43F3-9921-5B8909C5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9A78-F31E-47E2-9647-521B4765C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6F38-1F07-43BB-8FD2-8BC9D2265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4505-94F4-4A82-B0DE-AA98F1E4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2C8E-11D4-48EC-885F-572214A1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8EA4-6232-4F7A-8DD2-80ABBC36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464F-932B-48BA-BA15-1B916955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255F-DF78-4884-B4C4-D4267FF0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A6E7-6E1D-4224-83EA-6F38805F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9767-F295-496F-A022-EADA5CBA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9B9D-5077-4435-8A49-25CC6F77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F558A-B333-45AD-93FF-928A17BD58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