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89267"/>
        <c:axId val="1010494"/>
      </c:barChart>
      <c:catAx>
        <c:axId val="68489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0494"/>
        <c:crosses val="autoZero"/>
        <c:auto val="1"/>
        <c:lblAlgn val="ctr"/>
        <c:lblOffset val="100"/>
        <c:noMultiLvlLbl val="0"/>
      </c:catAx>
      <c:valAx>
        <c:axId val="1010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89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6E5-8761-470F-811F-3CCEFB22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7E3-4858-47BC-B6C7-BA2C817A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A70-D8D2-4360-8F05-65CFBADC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5F9-BBC8-48DA-B4F6-35D99B1E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806-0782-4D50-90B9-F6700524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2E9-E3ED-430D-87E8-6BC4AD2B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718-33D6-4985-8050-5AFE5161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D5B-3572-402F-87F0-08D68677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62F-CE08-463D-ADB8-4AE4B3A4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3FC-43C4-470A-8A4C-84D26FE0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06F-0E74-4D4C-8313-6DFA6941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9B8-618B-4D68-86B0-42E4217D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0C739-D72B-4151-91E5-ACCD435220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