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6300"/>
        <c:axId val="85081476"/>
      </c:barChart>
      <c:catAx>
        <c:axId val="9186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81476"/>
        <c:crosses val="autoZero"/>
        <c:auto val="1"/>
        <c:lblAlgn val="ctr"/>
        <c:lblOffset val="100"/>
        <c:noMultiLvlLbl val="0"/>
      </c:catAx>
      <c:valAx>
        <c:axId val="85081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6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74E-CB97-46F5-8E21-30643982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2C8-9281-4214-B1D0-58A15FE4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076-0D06-4C8A-BBD8-2D2A4404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E37-9D2D-48CD-9055-E99DF246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551-A471-4A5F-98DB-7DB41A1A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76A-76CD-402F-B174-34A372AC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5D0-2ED7-49E0-A578-93967366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9FA-9B68-4974-903A-E7291879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2E2-4559-49EE-A390-E46033F7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8EE-7A3E-4B2E-A6CD-2E8EB2CA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686-A93A-4972-BE53-92B8D1FB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887-660E-48E5-A8AD-3692435C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50032-50F5-4A3D-B0FA-6CD668F65A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