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06108"/>
        <c:axId val="90285074"/>
      </c:barChart>
      <c:catAx>
        <c:axId val="94706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85074"/>
        <c:crosses val="autoZero"/>
        <c:auto val="1"/>
        <c:lblAlgn val="ctr"/>
        <c:lblOffset val="100"/>
        <c:noMultiLvlLbl val="0"/>
      </c:catAx>
      <c:valAx>
        <c:axId val="90285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06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F27-8B36-461A-A4B7-8C3AB927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FB8-9526-4E01-8BCD-D72551E9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FB3-DA68-4A4D-83F0-6F785EC8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7D4-B3AE-4B33-84F6-0F07BAF0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B5B-7960-4AC8-BC61-D235CC50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C2F-033C-4486-87C8-CC1703E3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1E4-B664-470F-8AAB-2A6DB1D1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15E-2B28-4A70-B566-7D564C9C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60C-E1B5-448C-B583-6A8AA879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295-A407-42EA-BB03-80173011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F62-83A5-47F6-AD3B-0645CAD9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8F8-F629-4EFC-9F74-338BCA7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3316D-2328-4C77-B782-519E0C9ED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