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073347"/>
        <c:axId val="97871955"/>
      </c:barChart>
      <c:catAx>
        <c:axId val="720733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871955"/>
        <c:crosses val="autoZero"/>
        <c:auto val="1"/>
        <c:lblAlgn val="ctr"/>
        <c:lblOffset val="100"/>
        <c:noMultiLvlLbl val="0"/>
      </c:catAx>
      <c:valAx>
        <c:axId val="978719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733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40EC-9942-469A-822D-2694175D8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85D6-5CE1-499A-8285-5349142C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9561-9E30-4F5F-9C64-1E3181340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AC35-E252-429D-A9BC-C7AF786E6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7F26-DF11-4935-ADAC-8D0A5314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C383-499E-4CB9-BB78-E375DBB3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6531-F1DF-4626-8886-884052F6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EE73-DCAF-4570-9D4E-34C14C59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2D8E-75E1-46F8-BB72-099CEE46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3648-D85B-46A1-9A2C-E8CD0247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B5CD-6CDD-48E1-9945-0DB38BFB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EAF3-DDB2-4E65-A98D-01585F1A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9EC19-4ED4-44F4-9050-367CBDCD38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