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18030"/>
        <c:axId val="25521142"/>
      </c:barChart>
      <c:catAx>
        <c:axId val="89418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21142"/>
        <c:crosses val="autoZero"/>
        <c:auto val="1"/>
        <c:lblAlgn val="ctr"/>
        <c:lblOffset val="100"/>
        <c:noMultiLvlLbl val="0"/>
      </c:catAx>
      <c:valAx>
        <c:axId val="25521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18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336-D136-4012-B962-AF7CA9BF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919-BE6D-468F-AAFB-8A980B22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163-3DAB-414F-BB6E-034402C4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029-5C49-40C3-A5AA-EEB80335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9E7-3A43-45AC-9391-8EA0527C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BD9-B196-4E7C-B4CF-F6DAAC99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F70-EF86-46FE-935F-EB1D04F0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9E9-576B-4B6B-A7CE-BD8CACD7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725-494D-4C6A-A2F4-4CC632A3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62F-45E5-46EA-A2D0-B39AE78F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103-0B4F-4A8F-B953-9DB8734E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613-B602-4CEE-A0F6-B26D686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E5B83-83BF-41F1-9AB8-C52F28F944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