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85292"/>
        <c:axId val="93234230"/>
      </c:barChart>
      <c:catAx>
        <c:axId val="91585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34230"/>
        <c:crosses val="autoZero"/>
        <c:auto val="1"/>
        <c:lblAlgn val="ctr"/>
        <c:lblOffset val="100"/>
        <c:noMultiLvlLbl val="0"/>
      </c:catAx>
      <c:valAx>
        <c:axId val="93234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85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AF8-BF5D-4909-B15A-D8465848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93B-0468-40C6-AD41-9FB45C4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87E-351B-4552-A8E0-CDA4F389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980-966E-4278-8B2B-9AB2B88D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0C5-4CBF-4FC1-9764-231CCC00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D71-CD14-4F55-ABE0-99A67C29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5FF-9804-4F90-B90B-496F544E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CD5-FA22-4346-BD30-EF9457CE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5EB-F6E2-42AC-A0A8-127D6B1A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C47-3FB1-443C-83C8-5DAA46D4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005-B256-48E4-9BDE-1503476A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A4C-CA8C-44CC-AAF0-0BFDED6F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CC0F5-C2CA-4405-8F0C-B8295759BA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