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0139"/>
        <c:axId val="94196703"/>
      </c:barChart>
      <c:catAx>
        <c:axId val="9840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96703"/>
        <c:crosses val="autoZero"/>
        <c:auto val="1"/>
        <c:lblAlgn val="ctr"/>
        <c:lblOffset val="100"/>
        <c:noMultiLvlLbl val="0"/>
      </c:catAx>
      <c:valAx>
        <c:axId val="94196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0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E08-9853-4DF4-AA45-33D4E5DE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DE8-B293-43CA-8503-0330C59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0BE-7832-4819-8032-67C77374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AA9-DA4A-4BBB-884D-87F5AC01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939-C461-494D-89DD-E9143DCB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EE8-E6CD-4C7C-86FF-2F0C16B7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0CB-5422-4148-96EF-B87FDA5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8A8-96F1-4201-8C24-D4EEE31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6FF-B835-48E2-80FB-645E1E66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15A-292A-480F-8F05-953E239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B4A-C8DC-48AE-AE3A-24E263FF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853-44C6-42E5-A5A7-4B344505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548FB-0EF8-4FA2-8C54-8C8D52A2A4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