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7096"/>
        <c:axId val="76941557"/>
      </c:barChart>
      <c:catAx>
        <c:axId val="54597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41557"/>
        <c:crosses val="autoZero"/>
        <c:auto val="1"/>
        <c:lblAlgn val="ctr"/>
        <c:lblOffset val="100"/>
        <c:noMultiLvlLbl val="0"/>
      </c:catAx>
      <c:valAx>
        <c:axId val="76941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7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487-BD1C-4E88-A3DA-F420125A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F3B-B379-4E57-A13D-9996556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66D-4688-4D21-83B3-B0E7EC7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3AB-7C9E-46C7-98AA-E422AF70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7E8-71DB-4AFD-8490-17780377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C57-BE65-4C7D-A253-C405C028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7CC-849F-4EDC-B5D8-78DDFEC2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47A-36B8-4D6F-AC73-39AE238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9AC-B0E8-4757-8731-E8210A9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E9C-C7E5-4A05-88B3-0E46305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0D4-5D7A-4936-BA69-E9FE7CC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C50-C0D0-436E-996D-C76A1E2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3431F-4A7A-47BF-BDB5-7228F81AD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